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409-DDD9-48D4-BB6F-D9D4ED14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00C5-D1A6-45E0-88FC-9AA0E120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A148-56AC-4451-9CC8-55EB5768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AAA2-9197-476C-AC6D-11AA8F0D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6F40-8C6B-4A82-8B82-D289F5F5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4AE8-51B0-4551-98B1-D47964E9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508A-5BEA-4E7C-85BB-74842B15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023C-8602-459D-8197-EF03A081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0FDD-E56F-4DC9-9472-E9E88D1A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BBF6-1C37-4B43-AE53-5FAC5677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1287-9003-4CB2-B968-5BB89EDC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AF5-0581-433B-959C-467DBF41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670C-2634-4157-9789-7F1E61E8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406F-9545-47C8-966C-109EFA40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B8C5-6AB6-4368-8DC0-58EA527F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7639-D5B1-4382-9E9A-D64A3EC5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0E79-382B-4D10-9210-E9B6A653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DF87-80A8-4222-BCB9-55843A26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37D-7AF4-48FD-A984-BBB78D8A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4BC-A72B-40A7-BFAD-DCCBAF14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29A9-D631-4AF3-9C4C-050CD45B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EA7C-B2D2-404E-9EAC-2F4B16F6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C81-DB10-4CE6-8C44-E355124C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158B-31A0-433A-881A-5B52CCBF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E63B-DE38-4487-B50A-637E9EDEB10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FA09-EB21-4113-8B68-DA3BC642DC3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The Jesse Tree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7386480" cy="26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Today we erect a Jesse tree to remember that God is at work in History even when the cause seems lost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42768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Isaiah 11:8-9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765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  </a:t>
            </a: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The infant will play near the cobra’s den,  the young child will put its hand into the viper’s nest.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They will neither harm nor destroy </a:t>
            </a:r>
            <a:br>
              <a:rPr sz="3600"/>
            </a:b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on all my holy mountain, </a:t>
            </a:r>
            <a:br>
              <a:rPr sz="3600"/>
            </a:b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for the earth will be filled with the knowledge of the LORD as the waters cover the sea.</a:t>
            </a:r>
            <a:r>
              <a:rPr b="0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477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Isaiah 11:10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238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In that day the Root of Jesse will stand as a banner for the peoples; the nations will rally to him, and his resting place will be glorious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d47d"/>
                </a:solidFill>
                <a:latin typeface="comic"/>
              </a:rPr>
              <a:t>   </a:t>
            </a: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The Jesse Tree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0080" y="1523880"/>
            <a:ext cx="3875040" cy="4954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038480" y="1371600"/>
            <a:ext cx="373392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Jesse was King David’s Fath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宋体"/>
              </a:rPr>
              <a:t>God promised that the Messiah would come from the line of King David but . .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宋体"/>
              </a:rPr>
              <a:t>the monarchy of the royal house of David came to an end with the destruction of the temple in 587 BC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Isaiah’s Jesse Shoot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  <a:ea typeface="宋体"/>
              </a:rPr>
              <a:t>In the 9th century BC, the prophet Isaiah received a vision from God that showed that God would still honor his promise to David for the promised Messiah.  He compared the fallen house of  king David to a cut off tree out of whose stump grew a branch. This is the branch of Jesse’s tree; this is the branch out of which Jesus would be born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  <a:ea typeface="宋体"/>
              </a:rPr>
              <a:t>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52280"/>
            <a:ext cx="72388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A Modern jesse tree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7315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5181480" cy="50612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28600" y="304920"/>
            <a:ext cx="74772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Isaiah 11:10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47340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Isaiah 11:1-3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7650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宋体"/>
              </a:rPr>
              <a:t>A shoot will come up from the stump of Jesse; </a:t>
            </a: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宋体"/>
              </a:rPr>
              <a:t>   from his roots a Branch will bear fruit. The Spirit of the LORD will rest on him— the Spirit of wisdom and of understanding, </a:t>
            </a: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宋体"/>
              </a:rPr>
              <a:t>   the Spirit of counsel and of might, </a:t>
            </a: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宋体"/>
              </a:rPr>
              <a:t>   the Spirit of the knowledge and fear of the LORD and he will delight in the fear of the LORD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42768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Isaiah 11:4-5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765000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 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He will not judge by what he sees with his eyes, or decide by what he hears with his ears;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but with righteousness he will judge the needy, with justice he will give decisions for the poor of the earth. </a:t>
            </a: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He will strike the earth with the rod of his mouth; with the breath of his lips he will slay the wicked.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Righteousness will be his belt </a:t>
            </a: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and faithfulness the sash around his waist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42768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Isaiah 11:6-7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765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</a:t>
            </a: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</a:t>
            </a: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The wolf will live with the lamb, </a:t>
            </a:r>
            <a:br>
              <a:rPr sz="3600"/>
            </a:b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the leopard will lie down with the goat, the calf and the lion and the yearling together;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and a little child will lead them.  The cow will feed with the bear, </a:t>
            </a:r>
            <a:br>
              <a:rPr sz="3600"/>
            </a:b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their young will lie down together, </a:t>
            </a:r>
            <a:br>
              <a:rPr sz="3600"/>
            </a:b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and the lion will eat straw like the ox. </a:t>
            </a:r>
            <a:br>
              <a:rPr sz="3600"/>
            </a:br>
            <a:br>
              <a:rPr sz="1800"/>
            </a:b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20:46:36Z</dcterms:created>
  <dc:creator>Preferred Customer</dc:creator>
  <dc:description/>
  <dc:language>en-US</dc:language>
  <cp:lastModifiedBy>Frank Schaefer</cp:lastModifiedBy>
  <dcterms:modified xsi:type="dcterms:W3CDTF">2010-11-16T21:45:35Z</dcterms:modified>
  <cp:revision>145</cp:revision>
  <dc:subject/>
  <dc:title>Slide 1</dc:title>
</cp:coreProperties>
</file>