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0255-1EE7-49AF-ADD3-BA852621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66F8-8A5B-41C6-A3FB-06CEBDA9F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AA476-7098-42EC-8DCA-936705E7A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9AD13-D672-4B15-A2E0-DB16C65E0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8B696-02A3-4D4B-9F70-8F61DBC1D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1B2BF-F5CC-4523-888F-E7C04A023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1E63C-2A1C-4504-9493-5F660CDEB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9A67F-FFB1-47ED-B1A6-0593E6ECD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B741F-57AF-4559-9A24-BC82A1781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2F489-F1BE-4A0A-B6C0-A7765AC29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90F0B-6446-402A-AB12-54CCD636F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6D9EF-A502-44F1-8715-0F9D0E43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9E95-4079-445E-B8BF-B5B6FEE56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7A66-BE6B-4538-83B3-C4265D242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F2B52-83C1-45CA-B8A5-5F5033BFD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BFE5F-4367-469F-9E3A-256C392FE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C68C7-EBA7-458A-BE4C-1D3C29FCD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1D3D-CF87-4683-A528-6B1DE0306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F00C-D6E5-4E02-BDB7-3FD0D60D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76AE-3D4B-4144-A863-DF256B63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5504-CF72-45D1-86D6-F098CF6C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A90E-7DD6-4337-82CA-794FEB76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D891-6385-4946-B4A9-84A475689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9DD9-7E73-4F7D-907A-CF5364398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A958-885F-4E79-9804-A4952AF1F964}"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87C0-A861-43F3-8B39-89B0DEFD87C7}"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For I tell you that out of these stones God can raise up children for Abraham. The ax is already at the root of the trees, and every tree that does not produce good fruit will be cut down and thrown into the fir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809520" y="1447920"/>
            <a:ext cx="39625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his cousin John, the Baptist.  God sent John to prepare the hearts of the people of Israel for the arrival of the Messiah.</a:t>
            </a:r>
            <a:r>
              <a:rPr b="0" lang="en-US" sz="2800" spc="-1" strike="noStrike">
                <a:solidFill>
                  <a:srgbClr val="2f1311"/>
                </a:solidFill>
                <a:latin typeface="Arial"/>
              </a:rPr>
              <a:t> </a:t>
            </a:r>
            <a:endParaRPr b="0" lang="en-US" sz="2800" spc="-1" strike="noStrike">
              <a:solidFill>
                <a:srgbClr val="2f1311"/>
              </a:solidFill>
              <a:latin typeface="Arial"/>
            </a:endParaRPr>
          </a:p>
        </p:txBody>
      </p:sp>
      <p:pic>
        <p:nvPicPr>
          <p:cNvPr id="199" name="" descr=""/>
          <p:cNvPicPr/>
          <p:nvPr/>
        </p:nvPicPr>
        <p:blipFill>
          <a:blip r:embed="rId1"/>
          <a:stretch/>
        </p:blipFill>
        <p:spPr>
          <a:xfrm>
            <a:off x="457200" y="1446120"/>
            <a:ext cx="3314880" cy="44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201" name="" descr=""/>
          <p:cNvPicPr/>
          <p:nvPr/>
        </p:nvPicPr>
        <p:blipFill>
          <a:blip r:embed="rId1"/>
          <a:stretch/>
        </p:blipFill>
        <p:spPr>
          <a:xfrm>
            <a:off x="1719360" y="1219320"/>
            <a:ext cx="41511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oday, we hang this sack of ashes to remember John, the voice in the wilderness, who prepared the coming of the Messiah by calling us to repentance. The ashes are a symbol of our contrition and repentance.</a:t>
            </a:r>
            <a:br>
              <a:rPr sz="3600"/>
            </a:br>
            <a:br>
              <a:rPr sz="24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 </a:t>
            </a:r>
            <a:r>
              <a:rPr b="0" lang="en-US" sz="3200" spc="-1" strike="noStrike">
                <a:solidFill>
                  <a:srgbClr val="2f1311"/>
                </a:solidFill>
                <a:latin typeface="Arial"/>
                <a:ea typeface="宋体"/>
              </a:rPr>
              <a:t>In the fifteenth year of the reign of Tiberius Caesar—when Pontius Pilate was governor of Judea, Herod tetrarch of Galilee, his brother Philip tetrarch of Iturea and Traconitis, and Lysanias tetrarch of Abilene— during the high-priesthood of Annas and Caiaphas, the word of God came to John son of Zechariah in the wildernes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ent into all the country around the Jordan, preaching a baptism of repentance for the forgiveness of sin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it is written in the book of the words of Isaiah the prophet: </a:t>
            </a:r>
            <a:endParaRPr b="0" lang="en-US" sz="32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a:t>
            </a:r>
            <a:r>
              <a:rPr b="0" lang="en-US" sz="3200" spc="-1" strike="noStrike">
                <a:solidFill>
                  <a:srgbClr val="2f1311"/>
                </a:solidFill>
                <a:latin typeface="Arial"/>
                <a:ea typeface="宋体"/>
              </a:rPr>
              <a:t>A voice of one calling in the wilderness, </a:t>
            </a:r>
            <a:br>
              <a:rPr sz="3200"/>
            </a:br>
            <a:r>
              <a:rPr b="0" lang="en-US" sz="3200" spc="-1" strike="noStrike">
                <a:solidFill>
                  <a:srgbClr val="2f1311"/>
                </a:solidFill>
                <a:latin typeface="Arial"/>
                <a:ea typeface="宋体"/>
              </a:rPr>
              <a:t>‘Prepare the way for the Lord, </a:t>
            </a:r>
            <a:br>
              <a:rPr sz="3200"/>
            </a:br>
            <a:r>
              <a:rPr b="0" lang="en-US" sz="3200" spc="-1" strike="noStrike">
                <a:solidFill>
                  <a:srgbClr val="2f1311"/>
                </a:solidFill>
                <a:latin typeface="Arial"/>
                <a:ea typeface="宋体"/>
              </a:rPr>
              <a:t>   make straight paths for him. </a:t>
            </a:r>
            <a:br>
              <a:rPr sz="3200"/>
            </a:b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371600"/>
            <a:ext cx="6858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Every valley shall be filled in, </a:t>
            </a:r>
            <a:br>
              <a:rPr sz="3200"/>
            </a:br>
            <a:r>
              <a:rPr b="0" lang="en-US" sz="3200" spc="-1" strike="noStrike">
                <a:solidFill>
                  <a:srgbClr val="2f1311"/>
                </a:solidFill>
                <a:latin typeface="Arial"/>
                <a:ea typeface="宋体"/>
              </a:rPr>
              <a:t>   every mountain and hill made low. </a:t>
            </a:r>
            <a:br>
              <a:rPr sz="3200"/>
            </a:br>
            <a:r>
              <a:rPr b="0" lang="en-US" sz="3200" spc="-1" strike="noStrike">
                <a:solidFill>
                  <a:srgbClr val="2f1311"/>
                </a:solidFill>
                <a:latin typeface="Arial"/>
                <a:ea typeface="宋体"/>
              </a:rPr>
              <a:t>The crooked roads shall become straight, </a:t>
            </a:r>
            <a:br>
              <a:rPr sz="3200"/>
            </a:br>
            <a:r>
              <a:rPr b="0" lang="en-US" sz="3200" spc="-1" strike="noStrike">
                <a:solidFill>
                  <a:srgbClr val="2f1311"/>
                </a:solidFill>
                <a:latin typeface="Arial"/>
                <a:ea typeface="宋体"/>
              </a:rPr>
              <a:t>   the rough ways smooth. </a:t>
            </a:r>
            <a:br>
              <a:rPr sz="3200"/>
            </a:br>
            <a:r>
              <a:rPr b="0" lang="en-US" sz="3200" spc="-1" strike="noStrike">
                <a:solidFill>
                  <a:srgbClr val="2f1311"/>
                </a:solidFill>
                <a:latin typeface="Arial"/>
                <a:ea typeface="宋体"/>
              </a:rPr>
              <a:t>And all people will see God’s salvation.’”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John said to the crowds coming out to be baptized by him, “You brood of vipers! Who warned you to flee from the coming wrath?</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Produce fruit in keeping with repentance. And do not begin to say to yourselves, ‘We have Abraham as our fa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2:49Z</dcterms:modified>
  <cp:revision>147</cp:revision>
  <dc:subject/>
  <dc:title>Slide 1</dc:title>
</cp:coreProperties>
</file>