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FFB-4A48-4D48-9E33-7CA41B36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CD14-0809-4E74-B6D2-D2CB8684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1584-6773-4549-9B19-17401BE8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D4A-DE55-4FE9-B10F-372747E3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399-CF37-465E-9DC2-4D655600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4EF-D3DB-42D5-B678-CB162CF0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975-08E4-4245-B2E2-79B6BE8E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21B-6423-4885-8C17-9C08B82D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F5A-C2B8-4F2C-A069-BB43731C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CFC-A28F-4138-9E7A-F39F2D31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498-280C-46DB-A1A0-650AA920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51C-31CE-44DD-AA47-9799DF71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2EE9-9C71-4399-8DB8-20A877581C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098" t="0" r="0" b="15885"/>
          <a:stretch/>
        </p:blipFill>
        <p:spPr>
          <a:xfrm>
            <a:off x="17524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419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Old English Text MT"/>
              </a:rPr>
              <a:t>The King of K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Mistral AV"/>
                <a:ea typeface="Arial"/>
              </a:rPr>
              <a:t>Jesus Chri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2520" y="91440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n in a stabl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humbly riding on a donk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who suffers for His su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60520" y="1600200"/>
            <a:ext cx="8021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5130" r="11539" b="0"/>
          <a:stretch/>
        </p:blipFill>
        <p:spPr>
          <a:xfrm>
            <a:off x="0" y="0"/>
            <a:ext cx="9296280" cy="735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who calls all people of the world to be his subjec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ing who rose from the d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191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ing who will reign forev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who loves and ca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you and me personal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647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9098" t="0" r="0" b="15885"/>
          <a:stretch/>
        </p:blipFill>
        <p:spPr>
          <a:xfrm>
            <a:off x="17524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48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Old English Text MT"/>
              </a:rPr>
              <a:t>King of kings,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Old English Text MT"/>
              </a:rPr>
              <a:t>Lord of lord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Mistral AV"/>
                <a:ea typeface="Arial"/>
              </a:rPr>
              <a:t>Jesus Chri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mes to your mind when you think of “King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986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rger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4197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King of Far Far A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614600"/>
            <a:ext cx="73911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776"/>
          <a:stretch/>
        </p:blipFill>
        <p:spPr>
          <a:xfrm>
            <a:off x="1295280" y="380880"/>
            <a:ext cx="6324840" cy="4743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losest Thing we have to a Kingdom in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Inkpen2 Script"/>
              </a:rPr>
              <a:t>Disne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-life king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680" y="5638680"/>
            <a:ext cx="5181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Juan Carlos of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136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162920" cy="5372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s live in pala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s live in pomp and sty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4548"/>
          <a:stretch/>
        </p:blipFill>
        <p:spPr>
          <a:xfrm>
            <a:off x="380880" y="1289160"/>
            <a:ext cx="81536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Jesus is a King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of a different ki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5:52:40Z</dcterms:created>
  <dc:creator>Frank Schaefer</dc:creator>
  <dc:description/>
  <dc:language>en-US</dc:language>
  <cp:lastModifiedBy>Frank Schaefer</cp:lastModifiedBy>
  <dcterms:modified xsi:type="dcterms:W3CDTF">2010-03-09T21:13:15Z</dcterms:modified>
  <cp:revision>13</cp:revision>
  <dc:subject/>
  <dc:title>The King of Kings</dc:title>
</cp:coreProperties>
</file>